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30C-BCA2-4DD8-B9B2-AD22351C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82E-C385-4B14-9978-73160BD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6A5-A504-4AFE-95DA-1E714A87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B7A-A071-4B4F-89BF-29D539CF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D4AF-33F2-42C9-AF78-9BBED796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08C7-A96B-47DE-A091-B0FA480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6F7D-9202-4376-9D5D-14E3FF7A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252-0818-4D28-817C-0C667A3D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5870-9136-4175-8B2F-F445E8C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07F-F6F2-4238-8251-0AC416A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85C3-BB56-418B-9567-3E7F980C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482C-D9A5-4945-8064-A3057BCC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2F07-8C06-41AE-97B4-02E388DE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9AF-C2B0-44A8-AA66-A4B31156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DAD6-C4D8-4729-B490-0792DB05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E3D1-80F1-4092-9A49-C0F39E86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5C36-534C-41FA-9AE7-7DC0BBE8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4525-2702-4FBB-8AA4-5628965E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9F0-E9DF-4923-902A-35C63C09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31F-1B49-4FDC-88FE-892F623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84B-EA14-4A11-9BCC-38D96076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877-9ADD-4568-A375-4FEBB53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66DD-B2C3-491C-9C91-6174452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CAD-3B7B-4BAA-990B-19C28C54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8762-053C-423E-9C5C-44D71600832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737C-32CF-4CBB-83DE-6A928DB0C8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lase de espan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erta,dal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825560" y="1981080"/>
            <a:ext cx="1530360" cy="19814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1530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col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fé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ra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rg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38102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a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i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ej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li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ripos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643720" y="2136600"/>
            <a:ext cx="1819080" cy="16686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637240" y="436716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os numer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e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n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re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at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e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ch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ue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166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 Estacion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vier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mave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an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to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1682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0:15Z</dcterms:created>
  <dc:creator>WSFCS Workstation</dc:creator>
  <dc:description/>
  <dc:language>en-US</dc:language>
  <cp:lastModifiedBy>WSFCS Workstation</cp:lastModifiedBy>
  <dcterms:modified xsi:type="dcterms:W3CDTF">2010-04-27T18:59:05Z</dcterms:modified>
  <cp:revision>3</cp:revision>
  <dc:subject/>
  <dc:title>La clase de espanol</dc:title>
</cp:coreProperties>
</file>